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1BF-B84C-40AF-8855-D95A32E1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863-58C4-4655-B5C5-04038D1F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D5F-412D-4079-94C5-8F30CB52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88C-D38A-43F3-BD20-C7303FBB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7FFA-6040-4E90-877D-C48F212C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D3B5-8DE7-4D94-93B2-396C771E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C48E-E040-4FF9-8E95-4C1A19E7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08C8-3477-490A-B609-72630880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4B8A-D1CD-42F9-B0E4-0EA0212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1AF4-261A-4560-8FCE-32EF26D4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0821-6BBD-4F32-8B49-E1BFFCA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0E0-9C20-4667-998D-7A8E47E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24E4-C2C7-401B-B197-72C5A470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3F36-131C-4AD2-912C-2D909FE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52A0-D7A5-4A67-AB39-B189DE6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264A-2AFB-4CD9-831D-4DA906EF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663C-AEF3-4C54-95BA-31FF5878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4E1-9E58-4450-A878-0017FCD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45C-1613-4438-88FE-FFF2148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686-D8AA-4629-A868-08EF586A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DF6-F27B-4E61-A62C-6F852A7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59A-94C7-4035-9F69-353102C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A0F-C76C-428E-AE49-2F64236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1AF-94A8-4E4B-9261-AA81F99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BBD1-AD8C-44F8-B2FA-A995065B83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311-6F2B-4355-A831-D4C3EB7CC3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ГРУТОВАЊЕ КАНДИДАТ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кстерно 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рутовање кандидата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ржишту ра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опц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окупно тржиште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гмент тржишта ра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фокус је на неформалним методим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глаш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ан ј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литетан одзи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јављивањ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слепих” огл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р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пецијализовани час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невне нов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дио и телеви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генције за запошљ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ржавне агенције за запошљ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ватне агенције за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пецијализоване приватне агенције за регрутовање менаџера и специја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егрутовање преко школа и факул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форме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време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ангажовање током распуста и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ерманент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кон завршених студ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елативно јефт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уздан нач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оласка до квалитетних поједина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едостатак иску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еп успеха студирања и перформанс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тали 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фирмативно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формални методи екстерног регрутовања канди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епоруке постојећих запосле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пошљавање бивших запосле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амоиницијативно пријављени кандид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Евалуација рада специјалиста за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Евалуација извор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купни трошк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купан број пријављених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рошкови по запосленом кандид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цио сел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ужина останка кандидата у организ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формансе примљеног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азлике у квалитету из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це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привлач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валификовани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кандид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роју који омогућа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јбољих појединац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попуњавањ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пражњених радних ме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рутовање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ути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: 1) број људи који ће се пријавити, 2) тип људи који ће се пријавити, 3) вероватноћу да ће пријављени кандидат прихватити пос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врха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ефинисање потреба за регрутовањ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ндидата у складу с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ланом људских ресур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ивлач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што већег броја квалификованих кандидат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з прихватљиве трошк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ћањ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опе успешног изб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нди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ц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зличити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вора регруто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илозофије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в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радиционал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ценат је н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аксимирању бро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јављених кандидата за упражњено радно место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изак рацио сел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време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ценат је н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јављених кандидата за упражњено радно место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еалним описима по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Аспекти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литик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оме се одређују приступи и стандарди који ће се примењивати у привлачењу кандид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цио селекције (рацио прино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ат за предвиђање броја кандидата који је потребно да се пријави да би се ангажовао квалитетан кандидат (кандидати) за упражњено радно место (радна мес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рно vs. екстерно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но 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напређење запослених на више хијерархијске поз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зано с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лановима сукцес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мештај запослених на друга радна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мештај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ерманент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отирање послова између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ирање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ивреме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зив постојећим запосленима да се пријаве на упражњено радно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а сво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ед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достат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ришћење инвентара вештина (талена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жан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тет подат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адржаних у б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ност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знате су карактеристике и перформан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ослених шт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мањује могућност греш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изб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држ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отивациону компонен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штеда новца и врем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регрутовање, селекцију и обуку запосл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Јачање перцеп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гурности запосл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Недостац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напређ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ослених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ез потребног иску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 попуња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пражњеног радног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мена организације пос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а може довест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флик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твореност организ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што негативно утиче н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ов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лексибил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3T06:34:43Z</dcterms:modified>
  <cp:revision>143</cp:revision>
  <dc:subject/>
  <dc:title>Soft and Hard Skills Development: A Current Situation in Serbian Companies</dc:title>
</cp:coreProperties>
</file>